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902-FB02-4066-A1AC-C405A6E5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914-8CA0-40E1-85F2-6B358E47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7DF-F8F7-4844-87A1-95986A2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38D-A67E-4014-A03B-B96386DA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E75F-B4FA-4625-95E1-0AA1F414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DBE-6D68-44B5-A29B-720BBCE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8F9-92B4-415C-8A1A-0D77BD6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5A5-7BA0-43DF-A50A-1BEC54A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C77F-631F-4C35-928E-BD26D28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3D3-6BBD-45D3-AC3D-579403D2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FDE2-033A-4A2C-B156-4A961B3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B6F-60BE-48A2-9889-10C5343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888-B461-40D8-8D0B-289C526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62D-6A3C-45D7-9149-CDDB2F2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73FA-038D-40BD-8D8E-5AAD647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CC11-6E66-435F-842D-49974AA8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772C-2005-467A-B20E-5405E224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C5F-1912-46CC-8E60-3ABCE9E8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8A6-7ED3-47F1-9DA3-8E9C279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2A0-BC1C-4144-BF92-33FA1CC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1C0-2AF1-4855-8C7F-F883956D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9CA-7087-4FE2-996B-3273F62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2F5-0D47-469C-93A2-5FB6C15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BF0-E814-4862-95BA-1C17540F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23C-443A-4243-A1B1-E2A0ADCC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67E-4E33-4E2D-84D8-FE780E25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Verdana"/>
              </a:rPr>
              <a:t>ASIGURAREA CALITĂŢII ÎN ÎNVĂŢĂMÂNTUL PREUNIVERSIT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TRIBUŢII GENERALE ALE</a:t>
            </a: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ordonează aplicarea procedurilor şi activităţilor de autoevaluare instituţională şi privind calitatea educaţiei, conform domeniilor şi criteriilor prevăzute de Legea 87/20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laborează anual un Raport de evaluare internă privind calitatea educaţiei în unitatea şcolară respectivă – Raportul este adus la cunoştinţa beneficiarilor prin afişare sau public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Formulează propuneri de îmbunătăţire a calităţii educaţie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TRIBUŢII SPECIFICE ALE</a:t>
            </a: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fineş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în mod explicit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lorile, principiile şi indicatorii calităţi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struieş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prin participare şi dezbatere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sensul tuturor purtătorilor de interes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elevi, părinţi, cadre didactice, angajatori, administraţie locală, alţi reprezentanţi ai comunităţii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în privinţa valorilor, principiilor, indicatorilor de calitat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Urmăreşte respectare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în toate procedurile curente de funcţionare şi dezvoltare, a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lorilor, principiilor şi indicatorilor conveniţ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valuează impactul tuturor procesel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inclusiv şi mai ales al procesului de învăţământ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şi al activităţilor desfăşurate în şcoală asupra calităţii educaţiei oferi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şi raporte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în faţa autorităţilor şi a comunităţii, asupra modului în care a fost asigurată calitate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pune măsuri de optimizare/creştere/dezvoltare a calităţii educaţiei oferite de unitatea şcolară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la nivelul conceptului, principiilor, indicatorilor, standardelor privind calitatea, dar şi al procedurilor curente care privesc funcţionarea şi dezvoltarea şcoli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ţine toate materialele informative despre sistemul de management al calităţi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transmise în sistem, fiind obligată să prelucreze informaţia primită şi să o disemineze în şcoală şi către parteneri (elevi, părinţi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UTOEVALU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Ce este autoevaluare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alitatea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enţială de asigurare a calităţii prin care instituţia şcolară îşi evaluează ea însăşi performanţ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Autoevaluare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D</a:t>
            </a: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e ce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un pas iniţial, benefic şi util, cu scopul de a asigura dezvoltarea, creşterea şi nu de a sancţion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sigură autoreglarea, optimizarea şi revizuirea funcţionării şi dezvoltării instituţie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prezintă asumarea reală a rezultatelor ei de către toţi cei implicaţ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UTOEVALUAREA -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Verdana"/>
              </a:rPr>
              <a:t>Cum se realizeaz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lectarea domeniului/criteriului (în cazul în care evaluarea nu vizează toate domeniile prevăzute de Legea 87/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Diagnoza şi judecarea nivelului de realiz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Identificarea slăbiciunilor şi ţintelor pentru intervenţiile de remediere/dezvol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Crearea unui grup de lucr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Modificarea/optimizarea PDI/PAS/PD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Desfăşurarea activităţilor de dezvoltare/ optimizare/ remed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aplicarea instrumentului de evalu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LAN OPERAŢIONAL 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Obiectiv general: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349360"/>
          <a:ext cx="8640720" cy="3686400"/>
        </p:xfrm>
        <a:graphic>
          <a:graphicData uri="http://schemas.openxmlformats.org/drawingml/2006/table">
            <a:tbl>
              <a:tblPr/>
              <a:tblGrid>
                <a:gridCol w="509760"/>
                <a:gridCol w="1189080"/>
                <a:gridCol w="1181160"/>
                <a:gridCol w="1109520"/>
                <a:gridCol w="1108080"/>
                <a:gridCol w="1033560"/>
                <a:gridCol w="1328760"/>
                <a:gridCol w="11808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c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ctive specif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tăţ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-mente / resur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-sab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ali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ăţi de evalu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-tori de realiz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LAN DE ÎMBUNĂTĂŢ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276640"/>
          <a:ext cx="8569080" cy="4356000"/>
        </p:xfrm>
        <a:graphic>
          <a:graphicData uri="http://schemas.openxmlformats.org/drawingml/2006/table">
            <a:tbl>
              <a:tblPr/>
              <a:tblGrid>
                <a:gridCol w="512640"/>
                <a:gridCol w="806400"/>
                <a:gridCol w="1170000"/>
                <a:gridCol w="1392480"/>
                <a:gridCol w="1015920"/>
                <a:gridCol w="1253880"/>
                <a:gridCol w="1246320"/>
                <a:gridCol w="1171440"/>
              </a:tblGrid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c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Ţi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ţiuni neces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zultate măsurabi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-sab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ţiuni priorit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ori de perfor-manţ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uri / resurse neces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DRUL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.U.G. nr.75/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vind asigurarea calităţii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ea nr.87/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ntru aprobarea O.U.G. nr.75/200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mentul de organizare şi funcţionare a unităţilor de învăţământ preuniversitar aprobat pr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.M.Ed.C. nr.4925/200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a descentralizăr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învăţământului preuniversitar aprobată prin Memorandum în Şedinţa de Guvern din 20 decembrie 200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.G. nr.125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n 18. oct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vind aprobarea Regulamentului de organizare si functionare ARACI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.G. nr.25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n 22 febr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ntru modificarea H.G. nr.125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Valoarea pe care indivizii, societatea o acordă serviciilor educaţionale şi educaţiei în ansamblul 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finită de clienţii/ beneficiarii serviciilor educaţion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Construită pe valori împărtăş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0360" y="1125360"/>
            <a:ext cx="4392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NU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rea funcţionării şcolii. Vorbim de calitate doar după asigurarea funcţionării corespunzăto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Responsabilitatea exclusivă a şcoli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rodusă la comandă, prin efectul unei legi sau act normat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44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rodusă, în primul rând, de oame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tă printr-un sistem explicit de principii, criterii, standarde şi indicato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finită prin negociere între şcoală şi comunitate şi asumată în parteneri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niţiată prin autoevalu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NU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Condiţionată numai de bani şi resurse materi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mplicită şi un produs firesc al funcţionării norm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mpusă pe cale ierarhic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tă exclusiv prin evaluare extern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ro-RO" sz="3400" spc="-1" strike="noStrike">
                <a:solidFill>
                  <a:srgbClr val="000000"/>
                </a:solidFill>
                <a:latin typeface="Verdana"/>
              </a:rPr>
              <a:t>ALITATEA EDUCAŢIE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000000"/>
                </a:solidFill>
                <a:latin typeface="Verdana"/>
              </a:rPr>
              <a:t>este ansamblul de caracteristici ale unui program de studiu şi ale furnizorului acestuia, prin care sunt îndeplinite aşteptările beneficiarilor, precum şi standardele de calita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EDUCAŢIA DE CALI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 bazează pe inovaţie şi pe diversificar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oferită de instituţii responsabil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promovată de lideri educaţional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spectă autonomia individuală şi are la bază autonomia instituţional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orientată pe rezultat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 realizează în dialog şi prin parteneria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centrată pe clienţi şi beneficiarii serviciilor educaţio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sigură participarea actorilor educaţionali şi valoriz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z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sursele uman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Înţelege interdependenţa dintre furnizorii şi beneficiar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implicaţi în oferta de educaţi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 EDUCAŢIEI ESTE ASIGURATĂ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Actorii educaţionali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(cadrele didactice, elevii, părinţii, conducerea şcolii etc.) – cu rol în producerea şi generarea educaţiei de calitat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isia pentru evaluarea şi asigurarea calităţii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, care are rol în asigurarea calităţii şi  în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aluare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ntern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ă a calităţii educaţie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nspectoratul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şcolar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, care are rol î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controlul calităţi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Agenţia Română de Asigurare a Calităţii în Învăţământul Preuniversitar,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care are rolul de evaluare externă a calităţii educaţie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OMISIA PENTRU EVALUAREA ŞI ASIGURAREA CALITĂŢ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Verdana"/>
              </a:rPr>
              <a:t>Componenţa: 4-8 membri + 1 coordon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)1-3 reprezentanţi ai corpului profesoral, aleşi prin vot secret de consiliul profesor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)reprezentantul sindicat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)reprezentantul părinţ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)reprezentantul elevilor, în cazul învăţământului profesional, liceal şi postlic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)reprezentantul Consiliului loc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)reprezentantul agentului economic, dacă este cazu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)reprezentantul minorităţilor naţionale, dacă este caz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ROCEDURA DE SELECŢIE A MEMBRILOR 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elul către cadrele didactice din şcoală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fişare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diţiilor pe care trebuie să le îndeplineasc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unerea unei Scrisori de intenţie a cadrelor didactice, însoţite de Curriculum vitae şi Raport de activitat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zentarea candidaţilor în Consiliul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fesoral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egerea de către Consiliul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fesoral, prin vot secret, a reprezentanţilor cadrelor didact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unicarea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/ afişarea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zultate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27:55Z</dcterms:created>
  <dc:creator>Emese</dc:creator>
  <dc:description/>
  <dc:language>en-US</dc:language>
  <cp:lastModifiedBy>Dana</cp:lastModifiedBy>
  <dcterms:modified xsi:type="dcterms:W3CDTF">2011-05-24T15:09:29Z</dcterms:modified>
  <cp:revision>31</cp:revision>
  <dc:subject/>
  <dc:title>ASIGURAREA CALITĂŢII ÎN ÎNVĂŢĂMÂNTUL PREUNIVERSITAR</dc:title>
</cp:coreProperties>
</file>